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64D-9D5C-4A5C-83D3-8646ED38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DAB-E379-4816-9A7A-E31B4C2A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F8A-7CC2-45F1-9189-94A770D1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9A4-8B0F-4499-8984-E1475A1C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8A0-F52C-4041-8BC7-1BEBC251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367-EE37-47CF-8624-A9C3AE42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298-D716-4DDE-A76F-2C9F1179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EC8-B1EA-4CF1-AB7A-F25EC6E1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86A-881C-4E1D-81BC-948B7328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ED3-C1A5-49ED-B858-1AF610BC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B18-4A38-40DE-A243-C9614068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40C1-FC61-442F-A966-3E52E2DF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0980AED4-EE81-4E19-9CA7-A7B92CF562F3}" type="slidenum"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Program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i, j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i = 0; i &lt; 10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j = 0; j &lt; i+1; j++ )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 "A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Program to calculate the product of two numbers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product(int x, int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main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a,b,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Input the first number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Enter a number between 1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and 100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 ("%d", &amp;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Input the second number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Enter another number    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between 1 and 100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 ("%d", &amp;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05160" y="1142640"/>
            <a:ext cx="472428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Calculate and display the produc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 = product (a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%d times %d = %d \n", a, b, 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Functions returns the product of its two arguments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product (int x, int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(x*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523880"/>
            <a:ext cx="0" cy="5410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Brief Hi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6775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6480" indent="-366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y Dennis Ritchie at AT&amp;T Labs in 19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created to design and support the Unix operating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nly 27 keywords in the original version of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, goto, if, else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build a compiler for 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have written C comp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compilers are available for virtually ever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3 the American National Standards Institute (ANSI) formed a committee to establish a standard 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NSI Standard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pposed to K&amp;R C (referring to the general “standards” that appeared in the first edition of Brian Kernighan and Ritchie’s influential book:  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The C Programming Languag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use C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4489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intended as a language for progra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was for nonprogrammers to program and solve simpl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was created, influenced, and field-tested by working program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powerful and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nearly achieve the efficiency of assembly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ointers allow you do most of the things that you can do with an assembly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a structure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can be written and read much eas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standard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ANSI C program should work with any ANSI C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4640" y="355320"/>
            <a:ext cx="5527440" cy="12589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19800" bIns="19800" anchor="t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 Development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83120" y="1671480"/>
            <a:ext cx="1562040" cy="80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Edi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Progra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rot="16200000">
            <a:off x="4478760" y="2207880"/>
            <a:ext cx="766800" cy="189396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Sourc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Cod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83120" y="3773520"/>
            <a:ext cx="1562040" cy="80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Compil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rot="16200000">
            <a:off x="4478760" y="4209840"/>
            <a:ext cx="766800" cy="189396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Objec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Cod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83120" y="5773680"/>
            <a:ext cx="1562040" cy="808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Link Objec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Cod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4040" y="1365120"/>
          <a:ext cx="1631880" cy="17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040" y="1365120"/>
                    <a:ext cx="163188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7615080" y="5168880"/>
          <a:ext cx="163044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15080" y="5168880"/>
                    <a:ext cx="163044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735520" y="5715000"/>
            <a:ext cx="1778040" cy="1046160"/>
          </a:xfrm>
          <a:prstGeom prst="rightArrow">
            <a:avLst>
              <a:gd name="adj1" fmla="val 50000"/>
              <a:gd name="adj2" fmla="val 849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Executabl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76560" y="1530360"/>
            <a:ext cx="1679400" cy="1047600"/>
          </a:xfrm>
          <a:prstGeom prst="rightArrow">
            <a:avLst>
              <a:gd name="adj1" fmla="val 50000"/>
              <a:gd name="adj2" fmla="val 8016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41480" y="5573880"/>
            <a:ext cx="1855800" cy="1187280"/>
          </a:xfrm>
          <a:prstGeom prst="rightArrow">
            <a:avLst>
              <a:gd name="adj1" fmla="val 50000"/>
              <a:gd name="adj2" fmla="val 7816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Librar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Fil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llo World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rites this program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2779560"/>
            <a:ext cx="472464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ain (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7304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 ("Hello, World!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ilatio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 translates your source code (in the fil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hello.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to object code (machine dependent instructions for the particular machine you are 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difference with J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jav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iler creates Java byte code from your Java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yte code is then executed by a Java virtual machine, so it’s machine in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the object code will generate an executabl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compilers for C under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 provides the Workshop C Compiler, which you run with 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lso the freeware GNU compiler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ilatio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ile a pr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the program to object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belix[2] &gt; cc –c hello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the object code to executabl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belix[3] &gt; cc hello.o –o 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o the two steps together by run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belix[4] &gt; cc hello.c –o 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un your pr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belix[5] &gt; ./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Hello Worl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87680" y="5562720"/>
            <a:ext cx="3964680" cy="1373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 you leave off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-o, executable goes i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he file a.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ilation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messages are a little different than you may be used to but they can be quite descrip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forgot the semi-colon after 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belix[3] &gt; cc hello.c –o 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"hello.c", line 5: syntax error before or at: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c: acomp failed for hello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at the compiler flags and informs you about the error at the first inappropriate to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ase, 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try to fix problems starting with the first error the compiler gives you - the others may disappear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radius, ar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Enter radius (i.e. 10) :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 ( "%d", &amp;radiu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rea = 3.14159 * radius * radi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\nArea = %d\n\n", ar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 SS</cp:lastModifiedBy>
  <cp:lastPrinted>1998-07-26T16:47:22Z</cp:lastPrinted>
  <dcterms:modified xsi:type="dcterms:W3CDTF">2005-09-12T13:18:40Z</dcterms:modified>
  <cp:revision>1339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